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B92-5547-4DFE-8927-14421504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BEF-C826-4062-ABF1-9C1B946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790-A683-4A95-80CB-45060AE2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786-D83A-4B3B-BEA9-87EC5DD9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919-2F2C-48ED-BD83-4790967E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6912-4F6F-4567-83ED-628347B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B17C-1B0A-4A35-B7CB-325659E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0AFB-1872-4472-856C-313400FE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4795-5BE0-401D-9507-046290E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A1F9-46F0-41D1-A2C5-7D69286B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2A9-9989-4DE4-80D5-F330A40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1BD-15FE-4579-AC93-51472D7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770E-EDAC-4842-BC57-9EC2B63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90A-3397-4C58-B065-754A5EC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E65-E467-4F75-869E-DCFEAFB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D661-6146-4449-BE7C-48E4E082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683-5411-416E-AFF5-44B850B0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71D-6B93-4623-A0CD-CB0BD1B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FC7-E320-4B3B-BB25-561FED7B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54A-A2C3-43FC-8163-86C5580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8A7-88A7-4AB7-A191-40542458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E24-40C3-4B83-8803-CF74C74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81D-A0C6-435E-981D-1B1FD1D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020-23A8-4348-9639-FDD6EB5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D8D-5712-491C-8640-6E75238F98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C83D-C8D2-4EA3-BE15-E2D971BFEA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idspiration 3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Courtney Henc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Kidspir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designed for K-5 lea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s thinking, literacy, &amp; num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visual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s students as they think creatively and organize ideas to write, comprehend, &amp; communic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you can create a simple dia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name to pro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symb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mbol palette has over 3,000 symb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1 (All about me diagra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picture diagram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ready organized for y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change level of id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change order of id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word to look it 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definition/part of spe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synony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sen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listen to each word/sen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#2 (All about me writing view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pergrouper T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k supergrouper sh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new supergrouper sh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symbols in supergrouper for catego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 3 (Fruits and Vegg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ing activities using the teacher menu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 teacher m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your settings to be sav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word prot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hyperlin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ing words or nar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ve project as an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# 4 (Elepha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or ti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 #5 - page 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math text bo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-out stamp (page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groupers (page 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ground grid (page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s (page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ing color ti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Math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e geometry using pattern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re place value with base 10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ize fractions with fraction t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denominators with fraction bo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progression of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se templates come with the softwa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also comes with 2 boo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for helping you get star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with 50 lesson plans for K-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s phonemic awareness, phonics, vocabulary, and comprehen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1:13:41Z</dcterms:created>
  <dc:creator>Kyle</dc:creator>
  <dc:description/>
  <dc:language>en-US</dc:language>
  <cp:lastModifiedBy>Kyle</cp:lastModifiedBy>
  <dcterms:modified xsi:type="dcterms:W3CDTF">2009-04-13T21:32:31Z</dcterms:modified>
  <cp:revision>3</cp:revision>
  <dc:subject/>
  <dc:title>Kidspiration 3</dc:title>
</cp:coreProperties>
</file>